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F9C1E4-1310-4620-AAB3-7BA388088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Num" idx="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CDCC3F-79D4-4034-A3B1-A6C0E4A0B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B3D5FB-C12B-4876-BDFA-1B602DA67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68F604-4ADD-4E1D-BB28-4E12977FE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2BBECB-7521-427F-ACE7-9DE24B835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sldNum" idx="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FB97F-D51F-4925-88AB-799F8FF0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sldNum" idx="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5F9075-A467-4854-BF00-BE446C587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B6483A-5176-4BF0-AA48-E571BE0E0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348797-159B-471A-8473-628E3BCF6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438FA6-A048-4DDB-9910-B3E73C2E2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sldNum" idx="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68AC61-2D8E-4727-BCEF-AEFAD7F0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Num" idx="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E74DDE-D396-4982-81F7-A99D51532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C2AD15-329C-45CB-9A48-6AD1640F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D92D49-2695-419D-8FAD-DB3CE21B6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A0E47-B858-4C0F-8C14-587B4D54CB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3BC5-ED7F-4924-A112-BAB8C488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B667-9CF1-4EA6-99D5-CE631EB6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57A34-8D1B-41EE-87AB-B783597E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013EB-99DB-4440-8337-F0EF051A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5314D-E731-4AD6-8A75-EC92AA6C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98E8D-95D8-4A22-AE24-95A77D3C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EEB40-832E-4F84-9D17-7B777AE7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C52BA-1C31-4B3B-BF99-5FDC410A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C912C-CEC3-4867-9BA3-929462EBB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D8B7-B9E6-4F88-8B0B-0BDF000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8632-8F31-496B-8A9A-2B5F7B1B46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22B0-16BB-4D7A-A178-723825FAAE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57D4-497A-428A-A38C-7AD2F974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852-D8AD-45F8-B2EA-66AEFDBA9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659-24EE-46EF-AB62-65BD9356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99C-0EDD-4497-A625-7C4EAD254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4C90-FD88-4E23-8481-49891663E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98FB-E04E-4AA5-A4C5-5E632643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CCD-84F8-4C63-AFC0-FD84090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7759-CD41-4818-82D1-CB8CCC3F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A5DE-7A96-46E7-A4A8-8B40EB24E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610-96FD-467C-A5FA-1433721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E924-7621-432D-B21B-ABFB6820AB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 hidden="1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2" name="未知" hidden="1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3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" descr="21"/>
          <p:cNvPicPr/>
          <p:nvPr/>
        </p:nvPicPr>
        <p:blipFill>
          <a:blip r:embed="rId4"/>
          <a:stretch/>
        </p:blipFill>
        <p:spPr>
          <a:xfrm>
            <a:off x="0" y="6480"/>
            <a:ext cx="9143640" cy="6086160"/>
          </a:xfrm>
          <a:prstGeom prst="rect">
            <a:avLst/>
          </a:prstGeom>
          <a:ln w="0">
            <a:noFill/>
          </a:ln>
        </p:spPr>
      </p:pic>
      <p:sp>
        <p:nvSpPr>
          <p:cNvPr id="6" name="未知"/>
          <p:cNvSpPr/>
          <p:nvPr/>
        </p:nvSpPr>
        <p:spPr>
          <a:xfrm>
            <a:off x="0" y="1792440"/>
            <a:ext cx="9097560" cy="340920"/>
          </a:xfrm>
          <a:custGeom>
            <a:avLst/>
            <a:gdLst>
              <a:gd name="textAreaLeft" fmla="*/ 0 w 9097560"/>
              <a:gd name="textAreaRight" fmla="*/ 9097920 w 9097560"/>
              <a:gd name="textAreaTop" fmla="*/ 0 h 340920"/>
              <a:gd name="textAreaBottom" fmla="*/ 341280 h 34092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grpSp>
        <p:nvGrpSpPr>
          <p:cNvPr id="7" name="Group 4"/>
          <p:cNvGrpSpPr/>
          <p:nvPr/>
        </p:nvGrpSpPr>
        <p:grpSpPr>
          <a:xfrm>
            <a:off x="0" y="-360"/>
            <a:ext cx="9143640" cy="2089080"/>
            <a:chOff x="0" y="-360"/>
            <a:chExt cx="9143640" cy="2089080"/>
          </a:xfrm>
        </p:grpSpPr>
        <p:grpSp>
          <p:nvGrpSpPr>
            <p:cNvPr id="8" name="Group 5"/>
            <p:cNvGrpSpPr/>
            <p:nvPr/>
          </p:nvGrpSpPr>
          <p:grpSpPr>
            <a:xfrm>
              <a:off x="28440" y="-360"/>
              <a:ext cx="9115200" cy="1790640"/>
              <a:chOff x="28440" y="-360"/>
              <a:chExt cx="9115200" cy="1790640"/>
            </a:xfrm>
          </p:grpSpPr>
          <p:sp>
            <p:nvSpPr>
              <p:cNvPr id="9" name="Rectangle 6"/>
              <p:cNvSpPr/>
              <p:nvPr/>
            </p:nvSpPr>
            <p:spPr>
              <a:xfrm flipV="1">
                <a:off x="28440" y="-720"/>
                <a:ext cx="9115200" cy="179028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0" name="Rectangle 7"/>
              <p:cNvSpPr/>
              <p:nvPr/>
            </p:nvSpPr>
            <p:spPr>
              <a:xfrm flipV="1">
                <a:off x="28440" y="1689120"/>
                <a:ext cx="9115200" cy="100800"/>
              </a:xfrm>
              <a:prstGeom prst="rect">
                <a:avLst/>
              </a:prstGeom>
              <a:solidFill>
                <a:schemeClr val="tx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11" name="未知"/>
            <p:cNvSpPr/>
            <p:nvPr/>
          </p:nvSpPr>
          <p:spPr>
            <a:xfrm>
              <a:off x="0" y="1733400"/>
              <a:ext cx="9097560" cy="355320"/>
            </a:xfrm>
            <a:custGeom>
              <a:avLst/>
              <a:gdLst>
                <a:gd name="textAreaLeft" fmla="*/ 0 w 9097560"/>
                <a:gd name="textAreaRight" fmla="*/ 9097920 w 9097560"/>
                <a:gd name="textAreaTop" fmla="*/ 0 h 355320"/>
                <a:gd name="textAreaBottom" fmla="*/ 355680 h 35532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chemeClr val="tx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grpSp>
        <p:nvGrpSpPr>
          <p:cNvPr id="12" name="Group 9"/>
          <p:cNvGrpSpPr/>
          <p:nvPr/>
        </p:nvGrpSpPr>
        <p:grpSpPr>
          <a:xfrm>
            <a:off x="0" y="4689000"/>
            <a:ext cx="9143640" cy="2168640"/>
            <a:chOff x="0" y="4689000"/>
            <a:chExt cx="9143640" cy="2168640"/>
          </a:xfrm>
        </p:grpSpPr>
        <p:grpSp>
          <p:nvGrpSpPr>
            <p:cNvPr id="13" name="Group 10"/>
            <p:cNvGrpSpPr/>
            <p:nvPr/>
          </p:nvGrpSpPr>
          <p:grpSpPr>
            <a:xfrm>
              <a:off x="28440" y="5042160"/>
              <a:ext cx="9115200" cy="1815480"/>
              <a:chOff x="28440" y="5042160"/>
              <a:chExt cx="9115200" cy="1815480"/>
            </a:xfrm>
          </p:grpSpPr>
          <p:sp>
            <p:nvSpPr>
              <p:cNvPr id="14" name="Rectangle 11"/>
              <p:cNvSpPr/>
              <p:nvPr/>
            </p:nvSpPr>
            <p:spPr>
              <a:xfrm>
                <a:off x="28440" y="5042160"/>
                <a:ext cx="9115200" cy="181548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5" name="Rectangle 12"/>
              <p:cNvSpPr/>
              <p:nvPr/>
            </p:nvSpPr>
            <p:spPr>
              <a:xfrm>
                <a:off x="28440" y="5042160"/>
                <a:ext cx="9115200" cy="101520"/>
              </a:xfrm>
              <a:prstGeom prst="rect">
                <a:avLst/>
              </a:pr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grpSp>
          <p:nvGrpSpPr>
            <p:cNvPr id="16" name="Group 13"/>
            <p:cNvGrpSpPr/>
            <p:nvPr/>
          </p:nvGrpSpPr>
          <p:grpSpPr>
            <a:xfrm>
              <a:off x="0" y="4689000"/>
              <a:ext cx="9097560" cy="405360"/>
              <a:chOff x="0" y="4689000"/>
              <a:chExt cx="9097560" cy="405360"/>
            </a:xfrm>
          </p:grpSpPr>
          <p:sp>
            <p:nvSpPr>
              <p:cNvPr id="17" name="未知"/>
              <p:cNvSpPr/>
              <p:nvPr/>
            </p:nvSpPr>
            <p:spPr>
              <a:xfrm flipV="1">
                <a:off x="0" y="4688280"/>
                <a:ext cx="9097560" cy="3459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45960"/>
                  <a:gd name="textAreaBottom" fmla="*/ 345960 h 34596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chemeClr val="bg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18" name="未知"/>
              <p:cNvSpPr/>
              <p:nvPr/>
            </p:nvSpPr>
            <p:spPr>
              <a:xfrm flipV="1">
                <a:off x="0" y="4733280"/>
                <a:ext cx="9097560" cy="360360"/>
              </a:xfrm>
              <a:custGeom>
                <a:avLst/>
                <a:gdLst>
                  <a:gd name="textAreaLeft" fmla="*/ 0 w 9097560"/>
                  <a:gd name="textAreaRight" fmla="*/ 9097920 w 9097560"/>
                  <a:gd name="textAreaTop" fmla="*/ -360 h 360360"/>
                  <a:gd name="textAreaBottom" fmla="*/ 360360 h 36036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chemeClr val="accent1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20" name="AutoShape 17"/>
            <p:cNvSpPr/>
            <p:nvPr/>
          </p:nvSpPr>
          <p:spPr>
            <a:xfrm>
              <a:off x="42840" y="38160"/>
              <a:ext cx="9062640" cy="6781320"/>
            </a:xfrm>
            <a:prstGeom prst="roundRect">
              <a:avLst>
                <a:gd name="adj" fmla="val 6227"/>
              </a:avLst>
            </a:prstGeom>
            <a:noFill/>
            <a:ln w="762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1" name="未知"/>
            <p:cNvSpPr/>
            <p:nvPr/>
          </p:nvSpPr>
          <p:spPr>
            <a:xfrm>
              <a:off x="468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2" name="未知"/>
            <p:cNvSpPr/>
            <p:nvPr/>
          </p:nvSpPr>
          <p:spPr>
            <a:xfrm rot="16191600">
              <a:off x="-74520" y="6397920"/>
              <a:ext cx="533160" cy="3837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83760"/>
                <a:gd name="textAreaBottom" fmla="*/ 384120 h 38376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3" name="未知"/>
            <p:cNvSpPr/>
            <p:nvPr/>
          </p:nvSpPr>
          <p:spPr>
            <a:xfrm>
              <a:off x="8763120" y="6315120"/>
              <a:ext cx="380520" cy="552240"/>
            </a:xfrm>
            <a:custGeom>
              <a:avLst/>
              <a:gdLst>
                <a:gd name="textAreaLeft" fmla="*/ 0 w 380520"/>
                <a:gd name="textAreaRight" fmla="*/ 380880 w 38052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4" name="未知"/>
            <p:cNvSpPr/>
            <p:nvPr/>
          </p:nvSpPr>
          <p:spPr>
            <a:xfrm rot="5400000">
              <a:off x="8687160" y="0"/>
              <a:ext cx="456840" cy="45684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chemeClr val="bg1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pic>
        <p:nvPicPr>
          <p:cNvPr id="25" name="Picture 24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6479640" cy="1037880"/>
          </a:xfrm>
          <a:prstGeom prst="rect">
            <a:avLst/>
          </a:prstGeom>
          <a:ln w="0">
            <a:noFill/>
          </a:ln>
        </p:spPr>
      </p:pic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6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67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chemeClr val="accent1"/>
                </a:solidFill>
                <a:latin typeface="Verdana"/>
              </a:rPr>
              <a:t>单击此处编辑母版文本样式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第三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46ca6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sldNum" idx="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7072617-33F5-429D-87C1-46D3D3BD50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dt" idx="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3640" cy="10472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0" y="0"/>
            <a:ext cx="9143640" cy="24084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1" name="未知"/>
          <p:cNvSpPr/>
          <p:nvPr/>
        </p:nvSpPr>
        <p:spPr>
          <a:xfrm>
            <a:off x="0" y="950760"/>
            <a:ext cx="9150120" cy="461520"/>
          </a:xfrm>
          <a:custGeom>
            <a:avLst/>
            <a:gdLst>
              <a:gd name="textAreaLeft" fmla="*/ 0 w 9150120"/>
              <a:gd name="textAreaRight" fmla="*/ 9150480 w 9150120"/>
              <a:gd name="textAreaTop" fmla="*/ 0 h 461520"/>
              <a:gd name="textAreaBottom" fmla="*/ 461880 h 46152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12" name="Line 8"/>
          <p:cNvSpPr/>
          <p:nvPr/>
        </p:nvSpPr>
        <p:spPr>
          <a:xfrm>
            <a:off x="425160" y="6524280"/>
            <a:ext cx="8353440" cy="360"/>
          </a:xfrm>
          <a:prstGeom prst="line">
            <a:avLst/>
          </a:prstGeom>
          <a:ln w="9525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360" cy="2599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ldNum" idx="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E72E18-4CC9-46E1-8093-C9738FFBD6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800" spc="-1" strike="noStrike">
                <a:solidFill>
                  <a:schemeClr val="accent1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46ca6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5181120" cy="2285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120" cy="533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Num" idx="15"/>
          </p:nvPr>
        </p:nvSpPr>
        <p:spPr>
          <a:xfrm>
            <a:off x="4572000" y="6524640"/>
            <a:ext cx="115200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E760552-7F60-4F82-9F45-499AA73EBC0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755640" y="1413000"/>
            <a:ext cx="820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值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Num" idx="16"/>
          </p:nvPr>
        </p:nvSpPr>
        <p:spPr>
          <a:xfrm>
            <a:off x="442764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D0F3A43-66BA-483D-A74D-DE85DBD7C3E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79280" y="1413000"/>
            <a:ext cx="8784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Num" idx="17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6F99959-98DF-4352-8AFD-653FAC6E2C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967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Num" idx="18"/>
          </p:nvPr>
        </p:nvSpPr>
        <p:spPr>
          <a:xfrm>
            <a:off x="471636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EB1B3AF-19EE-4BD5-90A4-BE5E93DE513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71280" y="1341360"/>
            <a:ext cx="867852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Num" idx="19"/>
          </p:nvPr>
        </p:nvSpPr>
        <p:spPr>
          <a:xfrm>
            <a:off x="4356000" y="6524640"/>
            <a:ext cx="10792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8B43A9-B221-48BC-B33E-ED23324CE6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地西泮、氯氮䓬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Num" idx="20"/>
          </p:nvPr>
        </p:nvSpPr>
        <p:spPr>
          <a:xfrm>
            <a:off x="4572000" y="6524640"/>
            <a:ext cx="1007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17FC15C-B29A-4E1E-A477-11288F406F6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0" y="1341360"/>
            <a:ext cx="896436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0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Num" idx="21"/>
          </p:nvPr>
        </p:nvSpPr>
        <p:spPr>
          <a:xfrm>
            <a:off x="4500720" y="6524640"/>
            <a:ext cx="9140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212364B-045A-4AA2-B6FB-B129531A422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40" y="1341360"/>
            <a:ext cx="8425440" cy="487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22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8D8F1D-C1A0-4DF1-88AD-41D99F4D73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7120" y="1413000"/>
            <a:ext cx="8610120" cy="4963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23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BA1ACDF-69B4-40E5-9A45-949E72136BC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71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24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53FAF73-42A4-4DB6-9EAD-A187CB2E22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660360" y="285840"/>
            <a:ext cx="2232000" cy="785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843280" y="2061000"/>
            <a:ext cx="3960360" cy="3695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41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grpSp>
        <p:nvGrpSpPr>
          <p:cNvPr id="164" name="Group 4"/>
          <p:cNvGrpSpPr/>
          <p:nvPr/>
        </p:nvGrpSpPr>
        <p:grpSpPr>
          <a:xfrm>
            <a:off x="1819440" y="2219400"/>
            <a:ext cx="688680" cy="593280"/>
            <a:chOff x="1819440" y="2219400"/>
            <a:chExt cx="688680" cy="593280"/>
          </a:xfrm>
        </p:grpSpPr>
        <p:sp>
          <p:nvSpPr>
            <p:cNvPr id="165" name="AutoShape 5"/>
            <p:cNvSpPr/>
            <p:nvPr/>
          </p:nvSpPr>
          <p:spPr>
            <a:xfrm>
              <a:off x="1825200" y="222948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6" name="AutoShape 6"/>
            <p:cNvSpPr/>
            <p:nvPr/>
          </p:nvSpPr>
          <p:spPr>
            <a:xfrm>
              <a:off x="1819440" y="2219400"/>
              <a:ext cx="6829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67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68" name="Text Box 8"/>
          <p:cNvSpPr/>
          <p:nvPr/>
        </p:nvSpPr>
        <p:spPr>
          <a:xfrm>
            <a:off x="1990800" y="2276640"/>
            <a:ext cx="315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819440" y="2981160"/>
            <a:ext cx="686880" cy="593280"/>
          </a:xfrm>
          <a:prstGeom prst="hexagon">
            <a:avLst>
              <a:gd name="adj" fmla="val 28944"/>
              <a:gd name="vf" fmla="val 115470"/>
            </a:avLst>
          </a:prstGeom>
          <a:gradFill rotWithShape="0">
            <a:gsLst>
              <a:gs pos="0">
                <a:srgbClr val="3f5c66"/>
              </a:gs>
              <a:gs pos="100000">
                <a:srgbClr val="8ac8de"/>
              </a:gs>
            </a:gsLst>
            <a:lin ang="27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46ca6"/>
              </a:solidFill>
              <a:latin typeface="Arial"/>
              <a:ea typeface="宋体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1954080" y="3063960"/>
            <a:ext cx="35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11"/>
          <p:cNvGrpSpPr/>
          <p:nvPr/>
        </p:nvGrpSpPr>
        <p:grpSpPr>
          <a:xfrm>
            <a:off x="1803240" y="3749760"/>
            <a:ext cx="686880" cy="593280"/>
            <a:chOff x="1803240" y="3749760"/>
            <a:chExt cx="686880" cy="593280"/>
          </a:xfrm>
        </p:grpSpPr>
        <p:sp>
          <p:nvSpPr>
            <p:cNvPr id="172" name="AutoShape 12"/>
            <p:cNvSpPr/>
            <p:nvPr/>
          </p:nvSpPr>
          <p:spPr>
            <a:xfrm>
              <a:off x="1809000" y="375984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3" name="AutoShape 13"/>
            <p:cNvSpPr/>
            <p:nvPr/>
          </p:nvSpPr>
          <p:spPr>
            <a:xfrm>
              <a:off x="1803240" y="3749760"/>
              <a:ext cx="681120" cy="583200"/>
            </a:xfrm>
            <a:prstGeom prst="hexagon">
              <a:avLst>
                <a:gd name="adj" fmla="val 2891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174" name="AutoShape 14"/>
            <p:cNvSpPr/>
            <p:nvPr/>
          </p:nvSpPr>
          <p:spPr>
            <a:xfrm>
              <a:off x="1843200" y="3784680"/>
              <a:ext cx="598680" cy="51300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2f5e76"/>
                </a:gs>
              </a:gsLst>
              <a:path path="rect">
                <a:fillToRect l="100000" t="100000" r="0" b="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</p:grpSp>
      <p:sp>
        <p:nvSpPr>
          <p:cNvPr id="175" name="Text Box 15"/>
          <p:cNvSpPr/>
          <p:nvPr/>
        </p:nvSpPr>
        <p:spPr>
          <a:xfrm>
            <a:off x="1971720" y="3825720"/>
            <a:ext cx="352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555640" y="278100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555640" y="3573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55640" y="4365360"/>
            <a:ext cx="4800600" cy="360"/>
          </a:xfrm>
          <a:prstGeom prst="line">
            <a:avLst/>
          </a:prstGeom>
          <a:ln w="25400">
            <a:solidFill>
              <a:srgbClr val="c0c0c0"/>
            </a:solidFill>
            <a:prstDash val="sysDot"/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91504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引起肺炎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500120"/>
            <a:ext cx="8535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h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内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25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2FBFBE5-D77A-44B8-8BCE-3F4CDDB231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150012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Num" idx="26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870172B-BAA0-4378-A9B2-1044C2B8E3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360" cy="5035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74304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27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B1BF876-6C1D-449B-AF8F-987EEA6B29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线形标注 2 2"/>
          <p:cNvSpPr/>
          <p:nvPr/>
        </p:nvSpPr>
        <p:spPr>
          <a:xfrm>
            <a:off x="3692520" y="1165320"/>
            <a:ext cx="5343120" cy="756720"/>
          </a:xfrm>
          <a:prstGeom prst="borderCallout2">
            <a:avLst>
              <a:gd name="adj1" fmla="val 52809"/>
              <a:gd name="adj2" fmla="val -1313"/>
              <a:gd name="adj3" fmla="val 52810"/>
              <a:gd name="adj4" fmla="val -651"/>
              <a:gd name="adj5" fmla="val 130744"/>
              <a:gd name="adj6" fmla="val -2490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保护胃黏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线形标注 1 3"/>
          <p:cNvSpPr/>
          <p:nvPr/>
        </p:nvSpPr>
        <p:spPr>
          <a:xfrm>
            <a:off x="3692520" y="1995480"/>
            <a:ext cx="5343120" cy="576000"/>
          </a:xfrm>
          <a:prstGeom prst="borderCallout1">
            <a:avLst>
              <a:gd name="adj1" fmla="val 49265"/>
              <a:gd name="adj2" fmla="val 4"/>
              <a:gd name="adj3" fmla="val 124941"/>
              <a:gd name="adj4" fmla="val -24623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线形标注 1 4"/>
          <p:cNvSpPr/>
          <p:nvPr/>
        </p:nvSpPr>
        <p:spPr>
          <a:xfrm>
            <a:off x="3692520" y="2690640"/>
            <a:ext cx="5343120" cy="1025280"/>
          </a:xfrm>
          <a:prstGeom prst="borderCallout1">
            <a:avLst>
              <a:gd name="adj1" fmla="val 49615"/>
              <a:gd name="adj2" fmla="val 4"/>
              <a:gd name="adj3" fmla="val 54583"/>
              <a:gd name="adj4" fmla="val -2498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线形标注 1 5"/>
          <p:cNvSpPr/>
          <p:nvPr/>
        </p:nvSpPr>
        <p:spPr>
          <a:xfrm>
            <a:off x="3708360" y="3860640"/>
            <a:ext cx="5327280" cy="576000"/>
          </a:xfrm>
          <a:prstGeom prst="borderCallout1">
            <a:avLst>
              <a:gd name="adj1" fmla="val 53333"/>
              <a:gd name="adj2" fmla="val -191"/>
              <a:gd name="adj3" fmla="val -6051"/>
              <a:gd name="adj4" fmla="val -25071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∶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线形标注 1 6"/>
          <p:cNvSpPr/>
          <p:nvPr/>
        </p:nvSpPr>
        <p:spPr>
          <a:xfrm>
            <a:off x="3708360" y="4653000"/>
            <a:ext cx="5327280" cy="720360"/>
          </a:xfrm>
          <a:prstGeom prst="borderCallout1">
            <a:avLst>
              <a:gd name="adj1" fmla="val 48028"/>
              <a:gd name="adj2" fmla="val -411"/>
              <a:gd name="adj3" fmla="val -44821"/>
              <a:gd name="adj4" fmla="val -25044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线形标注 1 7"/>
          <p:cNvSpPr/>
          <p:nvPr/>
        </p:nvSpPr>
        <p:spPr>
          <a:xfrm>
            <a:off x="3708360" y="5567400"/>
            <a:ext cx="5316120" cy="828360"/>
          </a:xfrm>
          <a:prstGeom prst="borderCallout1">
            <a:avLst>
              <a:gd name="adj1" fmla="val 51288"/>
              <a:gd name="adj2" fmla="val -395"/>
              <a:gd name="adj3" fmla="val -79080"/>
              <a:gd name="adj4" fmla="val -3134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6480" y="1484640"/>
            <a:ext cx="896760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方法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严格把握洗胃的适应证和禁忌证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胃管应缓慢、轻柔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插入胃管后抽出的胃内容物，应留取标本及时送检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每次注入量不宜过多或过少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液温度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2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8247CB6-1F93-42B3-929E-0B1BA9DA454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23640" y="1484640"/>
            <a:ext cx="8424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注意事项</a:t>
            </a: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过程中要密切观察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机使用过程中的注意事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应尽早尽早、彻底、反复、多次，直到洗出液澄清无味为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00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洗胃完毕后有时需要保留胃管，以方便再次洗胃，尤其是有机磷中毒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39"/>
              </a:spcBef>
              <a:buNone/>
              <a:tabLst>
                <a:tab algn="l" pos="0"/>
              </a:tabLst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sldNum" idx="29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35BBC0E-81B8-42F4-8A78-EAC8580F47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Num" idx="30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B449C41-7C3B-4602-BD02-563995A2E1D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826920" y="33336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68360" y="907920"/>
            <a:ext cx="4601520" cy="720360"/>
            <a:chOff x="468360" y="907920"/>
            <a:chExt cx="4601520" cy="720360"/>
          </a:xfrm>
        </p:grpSpPr>
        <p:grpSp>
          <p:nvGrpSpPr>
            <p:cNvPr id="257" name="Group 5"/>
            <p:cNvGrpSpPr/>
            <p:nvPr/>
          </p:nvGrpSpPr>
          <p:grpSpPr>
            <a:xfrm>
              <a:off x="468360" y="907920"/>
              <a:ext cx="761760" cy="720360"/>
              <a:chOff x="468360" y="907920"/>
              <a:chExt cx="761760" cy="720360"/>
            </a:xfrm>
          </p:grpSpPr>
          <p:sp>
            <p:nvSpPr>
              <p:cNvPr id="258" name="AutoShape 6"/>
              <p:cNvSpPr/>
              <p:nvPr/>
            </p:nvSpPr>
            <p:spPr>
              <a:xfrm>
                <a:off x="474840" y="92016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59" name="AutoShape 7"/>
              <p:cNvSpPr/>
              <p:nvPr/>
            </p:nvSpPr>
            <p:spPr>
              <a:xfrm>
                <a:off x="468360" y="907920"/>
                <a:ext cx="755280" cy="70812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0" name="AutoShape 8"/>
              <p:cNvSpPr/>
              <p:nvPr/>
            </p:nvSpPr>
            <p:spPr>
              <a:xfrm>
                <a:off x="468360" y="950760"/>
                <a:ext cx="720360" cy="60624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1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1279440" y="1131840"/>
              <a:ext cx="37904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652320" y="9630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12"/>
          <p:cNvGrpSpPr/>
          <p:nvPr/>
        </p:nvGrpSpPr>
        <p:grpSpPr>
          <a:xfrm>
            <a:off x="468360" y="1700280"/>
            <a:ext cx="4462200" cy="664560"/>
            <a:chOff x="468360" y="1700280"/>
            <a:chExt cx="4462200" cy="664560"/>
          </a:xfrm>
        </p:grpSpPr>
        <p:grpSp>
          <p:nvGrpSpPr>
            <p:cNvPr id="265" name="Group 13"/>
            <p:cNvGrpSpPr/>
            <p:nvPr/>
          </p:nvGrpSpPr>
          <p:grpSpPr>
            <a:xfrm>
              <a:off x="468360" y="1700280"/>
              <a:ext cx="811440" cy="664560"/>
              <a:chOff x="468360" y="1700280"/>
              <a:chExt cx="811440" cy="664560"/>
            </a:xfrm>
          </p:grpSpPr>
          <p:sp>
            <p:nvSpPr>
              <p:cNvPr id="266" name="AutoShape 14"/>
              <p:cNvSpPr/>
              <p:nvPr/>
            </p:nvSpPr>
            <p:spPr>
              <a:xfrm>
                <a:off x="475200" y="171144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7" name="AutoShape 15"/>
              <p:cNvSpPr/>
              <p:nvPr/>
            </p:nvSpPr>
            <p:spPr>
              <a:xfrm>
                <a:off x="468360" y="1700280"/>
                <a:ext cx="8046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68" name="AutoShape 16"/>
              <p:cNvSpPr/>
              <p:nvPr/>
            </p:nvSpPr>
            <p:spPr>
              <a:xfrm>
                <a:off x="515880" y="1740240"/>
                <a:ext cx="70596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69" name="Line 17"/>
            <p:cNvSpPr/>
            <p:nvPr/>
          </p:nvSpPr>
          <p:spPr>
            <a:xfrm>
              <a:off x="1081800" y="2276280"/>
              <a:ext cx="38487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8"/>
            <p:cNvSpPr/>
            <p:nvPr/>
          </p:nvSpPr>
          <p:spPr>
            <a:xfrm>
              <a:off x="1843200" y="182232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9"/>
            <p:cNvSpPr/>
            <p:nvPr/>
          </p:nvSpPr>
          <p:spPr>
            <a:xfrm>
              <a:off x="675720" y="1751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0"/>
          <p:cNvGrpSpPr/>
          <p:nvPr/>
        </p:nvGrpSpPr>
        <p:grpSpPr>
          <a:xfrm>
            <a:off x="468360" y="2492280"/>
            <a:ext cx="4536720" cy="664920"/>
            <a:chOff x="468360" y="2492280"/>
            <a:chExt cx="4536720" cy="664920"/>
          </a:xfrm>
        </p:grpSpPr>
        <p:grpSp>
          <p:nvGrpSpPr>
            <p:cNvPr id="273" name="Group 21"/>
            <p:cNvGrpSpPr/>
            <p:nvPr/>
          </p:nvGrpSpPr>
          <p:grpSpPr>
            <a:xfrm>
              <a:off x="468360" y="2492280"/>
              <a:ext cx="761760" cy="664920"/>
              <a:chOff x="468360" y="2492280"/>
              <a:chExt cx="761760" cy="664920"/>
            </a:xfrm>
          </p:grpSpPr>
          <p:sp>
            <p:nvSpPr>
              <p:cNvPr id="274" name="AutoShape 22"/>
              <p:cNvSpPr/>
              <p:nvPr/>
            </p:nvSpPr>
            <p:spPr>
              <a:xfrm>
                <a:off x="474840" y="25038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5" name="AutoShape 23"/>
              <p:cNvSpPr/>
              <p:nvPr/>
            </p:nvSpPr>
            <p:spPr>
              <a:xfrm>
                <a:off x="468360" y="249228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76" name="AutoShape 24"/>
              <p:cNvSpPr/>
              <p:nvPr/>
            </p:nvSpPr>
            <p:spPr>
              <a:xfrm>
                <a:off x="512640" y="253224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77" name="Line 25"/>
            <p:cNvSpPr/>
            <p:nvPr/>
          </p:nvSpPr>
          <p:spPr>
            <a:xfrm>
              <a:off x="1044360" y="3068280"/>
              <a:ext cx="396072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26"/>
            <p:cNvSpPr/>
            <p:nvPr/>
          </p:nvSpPr>
          <p:spPr>
            <a:xfrm>
              <a:off x="2000520" y="2619360"/>
              <a:ext cx="2009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27"/>
            <p:cNvSpPr/>
            <p:nvPr/>
          </p:nvSpPr>
          <p:spPr>
            <a:xfrm>
              <a:off x="652320" y="254304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8"/>
          <p:cNvGrpSpPr/>
          <p:nvPr/>
        </p:nvGrpSpPr>
        <p:grpSpPr>
          <a:xfrm>
            <a:off x="468360" y="3284640"/>
            <a:ext cx="4535280" cy="664560"/>
            <a:chOff x="468360" y="3284640"/>
            <a:chExt cx="4535280" cy="664560"/>
          </a:xfrm>
        </p:grpSpPr>
        <p:grpSp>
          <p:nvGrpSpPr>
            <p:cNvPr id="281" name="Group 29"/>
            <p:cNvGrpSpPr/>
            <p:nvPr/>
          </p:nvGrpSpPr>
          <p:grpSpPr>
            <a:xfrm>
              <a:off x="468360" y="3284640"/>
              <a:ext cx="810720" cy="664560"/>
              <a:chOff x="468360" y="3284640"/>
              <a:chExt cx="810720" cy="664560"/>
            </a:xfrm>
          </p:grpSpPr>
          <p:sp>
            <p:nvSpPr>
              <p:cNvPr id="282" name="AutoShape 30"/>
              <p:cNvSpPr/>
              <p:nvPr/>
            </p:nvSpPr>
            <p:spPr>
              <a:xfrm>
                <a:off x="475200" y="329580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3" name="AutoShape 31"/>
              <p:cNvSpPr/>
              <p:nvPr/>
            </p:nvSpPr>
            <p:spPr>
              <a:xfrm>
                <a:off x="468360" y="3284640"/>
                <a:ext cx="8038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84" name="AutoShape 32"/>
              <p:cNvSpPr/>
              <p:nvPr/>
            </p:nvSpPr>
            <p:spPr>
              <a:xfrm>
                <a:off x="515880" y="3324240"/>
                <a:ext cx="67248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85" name="Line 33"/>
            <p:cNvSpPr/>
            <p:nvPr/>
          </p:nvSpPr>
          <p:spPr>
            <a:xfrm>
              <a:off x="1081440" y="3860640"/>
              <a:ext cx="3922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34"/>
            <p:cNvSpPr/>
            <p:nvPr/>
          </p:nvSpPr>
          <p:spPr>
            <a:xfrm>
              <a:off x="1581840" y="3335400"/>
              <a:ext cx="195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1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87" name="Text Box 35"/>
            <p:cNvSpPr/>
            <p:nvPr/>
          </p:nvSpPr>
          <p:spPr>
            <a:xfrm>
              <a:off x="675720" y="33354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68360" y="4076640"/>
            <a:ext cx="4535280" cy="664920"/>
            <a:chOff x="468360" y="4076640"/>
            <a:chExt cx="4535280" cy="664920"/>
          </a:xfrm>
        </p:grpSpPr>
        <p:grpSp>
          <p:nvGrpSpPr>
            <p:cNvPr id="289" name="Group 37"/>
            <p:cNvGrpSpPr/>
            <p:nvPr/>
          </p:nvGrpSpPr>
          <p:grpSpPr>
            <a:xfrm>
              <a:off x="468360" y="4076640"/>
              <a:ext cx="798480" cy="664920"/>
              <a:chOff x="468360" y="4076640"/>
              <a:chExt cx="798480" cy="664920"/>
            </a:xfrm>
          </p:grpSpPr>
          <p:sp>
            <p:nvSpPr>
              <p:cNvPr id="290" name="AutoShape 38"/>
              <p:cNvSpPr/>
              <p:nvPr/>
            </p:nvSpPr>
            <p:spPr>
              <a:xfrm>
                <a:off x="474840" y="408816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1" name="AutoShape 39"/>
              <p:cNvSpPr/>
              <p:nvPr/>
            </p:nvSpPr>
            <p:spPr>
              <a:xfrm>
                <a:off x="468360" y="4076640"/>
                <a:ext cx="79200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2" name="AutoShape 40"/>
              <p:cNvSpPr/>
              <p:nvPr/>
            </p:nvSpPr>
            <p:spPr>
              <a:xfrm>
                <a:off x="514080" y="4155840"/>
                <a:ext cx="69480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293" name="Line 41"/>
            <p:cNvSpPr/>
            <p:nvPr/>
          </p:nvSpPr>
          <p:spPr>
            <a:xfrm>
              <a:off x="1072440" y="4652640"/>
              <a:ext cx="393120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42"/>
            <p:cNvSpPr/>
            <p:nvPr/>
          </p:nvSpPr>
          <p:spPr>
            <a:xfrm>
              <a:off x="1565280" y="4148280"/>
              <a:ext cx="19260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endParaRPr b="1" lang="en-US" sz="2800" spc="-1" strike="noStrike">
                <a:solidFill>
                  <a:srgbClr val="046ca6"/>
                </a:solidFill>
                <a:latin typeface="Arial"/>
                <a:ea typeface="宋体"/>
              </a:endParaRPr>
            </a:p>
          </p:txBody>
        </p:sp>
        <p:sp>
          <p:nvSpPr>
            <p:cNvPr id="295" name="Text Box 43"/>
            <p:cNvSpPr/>
            <p:nvPr/>
          </p:nvSpPr>
          <p:spPr>
            <a:xfrm>
              <a:off x="669960" y="4156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44"/>
          <p:cNvGrpSpPr/>
          <p:nvPr/>
        </p:nvGrpSpPr>
        <p:grpSpPr>
          <a:xfrm>
            <a:off x="468360" y="4869000"/>
            <a:ext cx="4608360" cy="664560"/>
            <a:chOff x="468360" y="4869000"/>
            <a:chExt cx="4608360" cy="664560"/>
          </a:xfrm>
        </p:grpSpPr>
        <p:grpSp>
          <p:nvGrpSpPr>
            <p:cNvPr id="297" name="Group 45"/>
            <p:cNvGrpSpPr/>
            <p:nvPr/>
          </p:nvGrpSpPr>
          <p:grpSpPr>
            <a:xfrm>
              <a:off x="468360" y="4869000"/>
              <a:ext cx="761760" cy="664560"/>
              <a:chOff x="468360" y="4869000"/>
              <a:chExt cx="761760" cy="664560"/>
            </a:xfrm>
          </p:grpSpPr>
          <p:sp>
            <p:nvSpPr>
              <p:cNvPr id="298" name="AutoShape 46"/>
              <p:cNvSpPr/>
              <p:nvPr/>
            </p:nvSpPr>
            <p:spPr>
              <a:xfrm>
                <a:off x="474840" y="488016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299" name="AutoShape 47"/>
              <p:cNvSpPr/>
              <p:nvPr/>
            </p:nvSpPr>
            <p:spPr>
              <a:xfrm>
                <a:off x="468360" y="4869000"/>
                <a:ext cx="755280" cy="6534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0" name="AutoShape 48"/>
              <p:cNvSpPr/>
              <p:nvPr/>
            </p:nvSpPr>
            <p:spPr>
              <a:xfrm>
                <a:off x="512640" y="4908600"/>
                <a:ext cx="663120" cy="5742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01" name="Line 49"/>
            <p:cNvSpPr/>
            <p:nvPr/>
          </p:nvSpPr>
          <p:spPr>
            <a:xfrm>
              <a:off x="1044360" y="544500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50"/>
            <p:cNvSpPr/>
            <p:nvPr/>
          </p:nvSpPr>
          <p:spPr>
            <a:xfrm>
              <a:off x="2007720" y="500688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1"/>
            <p:cNvSpPr/>
            <p:nvPr/>
          </p:nvSpPr>
          <p:spPr>
            <a:xfrm>
              <a:off x="641160" y="500220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矩形 55"/>
          <p:cNvSpPr/>
          <p:nvPr/>
        </p:nvSpPr>
        <p:spPr>
          <a:xfrm>
            <a:off x="1260360" y="3318480"/>
            <a:ext cx="4222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56"/>
          <p:cNvSpPr/>
          <p:nvPr/>
        </p:nvSpPr>
        <p:spPr>
          <a:xfrm>
            <a:off x="1272600" y="4184640"/>
            <a:ext cx="4150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44"/>
          <p:cNvGrpSpPr/>
          <p:nvPr/>
        </p:nvGrpSpPr>
        <p:grpSpPr>
          <a:xfrm>
            <a:off x="468360" y="5732640"/>
            <a:ext cx="4608360" cy="666360"/>
            <a:chOff x="468360" y="5732640"/>
            <a:chExt cx="4608360" cy="666360"/>
          </a:xfrm>
        </p:grpSpPr>
        <p:grpSp>
          <p:nvGrpSpPr>
            <p:cNvPr id="307" name="Group 45"/>
            <p:cNvGrpSpPr/>
            <p:nvPr/>
          </p:nvGrpSpPr>
          <p:grpSpPr>
            <a:xfrm>
              <a:off x="468360" y="5732640"/>
              <a:ext cx="761760" cy="666360"/>
              <a:chOff x="468360" y="5732640"/>
              <a:chExt cx="761760" cy="666360"/>
            </a:xfrm>
          </p:grpSpPr>
          <p:sp>
            <p:nvSpPr>
              <p:cNvPr id="308" name="AutoShape 46"/>
              <p:cNvSpPr/>
              <p:nvPr/>
            </p:nvSpPr>
            <p:spPr>
              <a:xfrm>
                <a:off x="474840" y="574380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09" name="AutoShape 47"/>
              <p:cNvSpPr/>
              <p:nvPr/>
            </p:nvSpPr>
            <p:spPr>
              <a:xfrm>
                <a:off x="468360" y="5732640"/>
                <a:ext cx="755280" cy="655200"/>
              </a:xfrm>
              <a:prstGeom prst="hexagon">
                <a:avLst>
                  <a:gd name="adj" fmla="val 28916"/>
                  <a:gd name="vf" fmla="val 115470"/>
                </a:avLst>
              </a:prstGeom>
              <a:gradFill rotWithShape="0">
                <a:gsLst>
                  <a:gs pos="0">
                    <a:srgbClr val="7d8496"/>
                  </a:gs>
                  <a:gs pos="50000">
                    <a:srgbClr val="e6e6e6"/>
                  </a:gs>
                  <a:gs pos="100000">
                    <a:srgbClr val="7d8496"/>
                  </a:gs>
                </a:gsLst>
                <a:lin ang="2700000"/>
              </a:gradFill>
              <a:ln w="9525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  <p:sp>
            <p:nvSpPr>
              <p:cNvPr id="310" name="AutoShape 48"/>
              <p:cNvSpPr/>
              <p:nvPr/>
            </p:nvSpPr>
            <p:spPr>
              <a:xfrm>
                <a:off x="512640" y="5771880"/>
                <a:ext cx="663120" cy="57600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3f5c66"/>
                  </a:gs>
                  <a:gs pos="100000">
                    <a:srgbClr val="8ac8de"/>
                  </a:gs>
                </a:gsLst>
                <a:lin ang="2700000"/>
              </a:gradFill>
              <a:ln w="9525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  <a:ea typeface="宋体"/>
                </a:endParaRPr>
              </a:p>
            </p:txBody>
          </p:sp>
        </p:grpSp>
        <p:sp>
          <p:nvSpPr>
            <p:cNvPr id="311" name="Line 49"/>
            <p:cNvSpPr/>
            <p:nvPr/>
          </p:nvSpPr>
          <p:spPr>
            <a:xfrm>
              <a:off x="1044360" y="6310080"/>
              <a:ext cx="4032360" cy="360"/>
            </a:xfrm>
            <a:prstGeom prst="line">
              <a:avLst/>
            </a:prstGeom>
            <a:ln w="25400">
              <a:solidFill>
                <a:srgbClr val="969696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2" name="Text Box 50"/>
            <p:cNvSpPr/>
            <p:nvPr/>
          </p:nvSpPr>
          <p:spPr>
            <a:xfrm>
              <a:off x="1910520" y="584532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51"/>
            <p:cNvSpPr/>
            <p:nvPr/>
          </p:nvSpPr>
          <p:spPr>
            <a:xfrm>
              <a:off x="667800" y="5874120"/>
              <a:ext cx="3502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57120" y="150012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31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C12AD61-D53F-4B65-9C99-A79201A1A5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圆角矩形 4"/>
          <p:cNvSpPr/>
          <p:nvPr/>
        </p:nvSpPr>
        <p:spPr>
          <a:xfrm>
            <a:off x="357120" y="2286000"/>
            <a:ext cx="8496000" cy="35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h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急诊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发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2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24000" y="90792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3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85840" y="1125360"/>
            <a:ext cx="85723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561"/>
              </a:spcBef>
              <a:buClr>
                <a:srgbClr val="ffc000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评估各种常见急性中毒患者的健康状况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Verdana"/>
              <a:buAutoNum type="arabicPeriod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施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8"/>
          </p:nvPr>
        </p:nvSpPr>
        <p:spPr>
          <a:xfrm>
            <a:off x="3429000" y="6477120"/>
            <a:ext cx="2133360" cy="307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A2CC25E-692F-4D3C-A840-CF50FA90B6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610120" cy="497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33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lang="en-US" sz="32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34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35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32" name="圆角矩形 4"/>
          <p:cNvSpPr/>
          <p:nvPr/>
        </p:nvSpPr>
        <p:spPr>
          <a:xfrm>
            <a:off x="324000" y="2276640"/>
            <a:ext cx="8496000" cy="316836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女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家庭矛盾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百草枯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0ml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兑水后吞服，出现恶心、呕吐，呕吐物为草绿色胃内容物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7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98/62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意识清楚，咽部充血，口腔黏膜损伤。胸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线示：双肺纹理增强。诊断为百草枯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125360"/>
            <a:ext cx="8610120" cy="5122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2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病情观察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45" name="圆角矩形 3"/>
          <p:cNvSpPr/>
          <p:nvPr/>
        </p:nvSpPr>
        <p:spPr>
          <a:xfrm>
            <a:off x="179280" y="2276640"/>
            <a:ext cx="8784720" cy="3096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误服含毒鼠强成分的饼干后出现头晕、心悸，后神志不清，二便失禁，平车入院。入院查体：体温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9.2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6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1/77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00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面色青灰，口唇、指端重度发绀，反复强直抽搐，双肺布满湿啰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问题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Num" idx="9"/>
          </p:nvPr>
        </p:nvSpPr>
        <p:spPr>
          <a:xfrm>
            <a:off x="4067280" y="6524640"/>
            <a:ext cx="113148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1F6522D-2FC0-40F6-9AA1-3EE8551A82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39640" y="1785960"/>
            <a:ext cx="8299080" cy="443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溴鼠隆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0" name="线形标注 2 1"/>
          <p:cNvSpPr/>
          <p:nvPr/>
        </p:nvSpPr>
        <p:spPr>
          <a:xfrm>
            <a:off x="4245120" y="1197000"/>
            <a:ext cx="4647960" cy="1152000"/>
          </a:xfrm>
          <a:prstGeom prst="borderCallout2">
            <a:avLst>
              <a:gd name="adj1" fmla="val 53334"/>
              <a:gd name="adj2" fmla="val -515"/>
              <a:gd name="adj3" fmla="val 52316"/>
              <a:gd name="adj4" fmla="val -274"/>
              <a:gd name="adj5" fmla="val 152763"/>
              <a:gd name="adj6" fmla="val -22286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线形标注 2 4"/>
          <p:cNvSpPr/>
          <p:nvPr/>
        </p:nvSpPr>
        <p:spPr>
          <a:xfrm>
            <a:off x="4290840" y="2637000"/>
            <a:ext cx="4647960" cy="1079280"/>
          </a:xfrm>
          <a:prstGeom prst="borderCallout2">
            <a:avLst>
              <a:gd name="adj1" fmla="val 50243"/>
              <a:gd name="adj2" fmla="val -262"/>
              <a:gd name="adj3" fmla="val 48071"/>
              <a:gd name="adj4" fmla="val -526"/>
              <a:gd name="adj5" fmla="val 85019"/>
              <a:gd name="adj6" fmla="val -2305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 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 4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线形标注 2 5"/>
          <p:cNvSpPr/>
          <p:nvPr/>
        </p:nvSpPr>
        <p:spPr>
          <a:xfrm>
            <a:off x="4290840" y="3933000"/>
            <a:ext cx="4647960" cy="1150560"/>
          </a:xfrm>
          <a:prstGeom prst="borderCallout2">
            <a:avLst>
              <a:gd name="adj1" fmla="val 49307"/>
              <a:gd name="adj2" fmla="val -515"/>
              <a:gd name="adj3" fmla="val 18750"/>
              <a:gd name="adj4" fmla="val -16667"/>
              <a:gd name="adj5" fmla="val 18246"/>
              <a:gd name="adj6" fmla="val -1654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线形标注 2 6"/>
          <p:cNvSpPr/>
          <p:nvPr/>
        </p:nvSpPr>
        <p:spPr>
          <a:xfrm>
            <a:off x="4290840" y="5300640"/>
            <a:ext cx="4647960" cy="1007640"/>
          </a:xfrm>
          <a:prstGeom prst="borderCallout2">
            <a:avLst>
              <a:gd name="adj1" fmla="val 52475"/>
              <a:gd name="adj2" fmla="val -262"/>
              <a:gd name="adj3" fmla="val 54801"/>
              <a:gd name="adj4" fmla="val -526"/>
              <a:gd name="adj5" fmla="val -51036"/>
              <a:gd name="adj6" fmla="val -22909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58" name="圆角矩形 3"/>
          <p:cNvSpPr/>
          <p:nvPr/>
        </p:nvSpPr>
        <p:spPr>
          <a:xfrm>
            <a:off x="179280" y="2276640"/>
            <a:ext cx="8784720" cy="38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患儿，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。因误吸入煤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余，昏睡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4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7/57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患儿呈昏迷状，面色苍白，口唇发绀，对外界刺激无反应，双侧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存在，压眶反射存在，四肢肌力、肌张力减弱，颈软，巴宾斯基征阳性，腱反射减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2920" y="1371600"/>
            <a:ext cx="83437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碳氧血红蛋白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69" name="圆角矩形 4"/>
          <p:cNvSpPr/>
          <p:nvPr/>
        </p:nvSpPr>
        <p:spPr>
          <a:xfrm>
            <a:off x="324000" y="2349360"/>
            <a:ext cx="8496000" cy="259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46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。因同事生日聚会饮用高度白酒至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意识不清，呕吐物有酒精气味，平车入院。入院查体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T 36.5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 12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 28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P 90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诊断为急性酒精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Verdana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酒精，学名乙醇，是日常生活中各类酒饮料的主要成分，也可用作医用消毒剂、工业原料等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毒机制：中枢神经系统损害、代谢异常、心脏损害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Num" idx="10"/>
          </p:nvPr>
        </p:nvSpPr>
        <p:spPr>
          <a:xfrm>
            <a:off x="4284720" y="6524640"/>
            <a:ext cx="122364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1C72481-8CCF-4EA2-919C-E95AA11031C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4000" y="1628640"/>
            <a:ext cx="851508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5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8ac8de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82" name="圆角矩形 3"/>
          <p:cNvSpPr/>
          <p:nvPr/>
        </p:nvSpPr>
        <p:spPr>
          <a:xfrm>
            <a:off x="324000" y="2349360"/>
            <a:ext cx="8496000" cy="2808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因昏迷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平车入院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7.8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5/83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瞳孔等大等圆，直径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&lt;2mm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对光反射消失。颈软，气管偏右，双肺布满鼾音。胃内容物及尿检为巴比妥类药物阳性，诊断为重度巴比妥中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请问：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64120" cy="4474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11430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>
              <a:lnSpc>
                <a:spcPct val="14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200000"/>
              </a:lnSpc>
              <a:spcBef>
                <a:spcPts val="439"/>
              </a:spcBef>
              <a:buClr>
                <a:srgbClr val="ddb523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36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179280" y="2133720"/>
            <a:ext cx="8784720" cy="4319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  <a:tabLst>
                <a:tab algn="l" pos="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男性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h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前因情绪不佳口服实验室用稀硫酸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l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服后即感咽喉部、食道灼痛，眼部刺痛，畏光流泪，频发恶心、呕吐，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in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后呕吐咖啡渣样物约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800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6.5℃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脉搏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00/60mmH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患者急性痛苦貌，呼吸急促，烦躁不安。口腔黏膜呈深褐色，双肺散在中、细湿啰音，胸片表现为双肺纹理增粗、紊乱呈现模糊或斑片状。心电图示：窦性心动过速，偶见室性早搏、房室传导阻滞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问题：患者出现上述症状，最可能的原因是什么？如何对该患者进行急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Num" idx="11"/>
          </p:nvPr>
        </p:nvSpPr>
        <p:spPr>
          <a:xfrm>
            <a:off x="4427640" y="6524640"/>
            <a:ext cx="9140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84985A-0198-48CA-92AF-41CAB03578E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5640" y="1413000"/>
            <a:ext cx="8568720" cy="4803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marL="457200" indent="0">
              <a:lnSpc>
                <a:spcPct val="2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68360" y="1371600"/>
            <a:ext cx="844668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>
              <a:lnSpc>
                <a:spcPct val="200000"/>
              </a:lnSpc>
              <a:spcBef>
                <a:spcPts val="479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37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睛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38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40000"/>
              </a:lnSpc>
              <a:spcBef>
                <a:spcPts val="561"/>
              </a:spcBef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救护措施</a:t>
            </a: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marL="85716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  <p:sp>
        <p:nvSpPr>
          <p:cNvPr id="405" name="线形标注 1 4"/>
          <p:cNvSpPr/>
          <p:nvPr/>
        </p:nvSpPr>
        <p:spPr>
          <a:xfrm>
            <a:off x="3419640" y="1125360"/>
            <a:ext cx="5544720" cy="3671640"/>
          </a:xfrm>
          <a:prstGeom prst="borderCallout1">
            <a:avLst>
              <a:gd name="adj1" fmla="val 20346"/>
              <a:gd name="adj2" fmla="val 123"/>
              <a:gd name="adj3" fmla="val 49305"/>
              <a:gd name="adj4" fmla="val -8818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线形标注 1 5"/>
          <p:cNvSpPr/>
          <p:nvPr/>
        </p:nvSpPr>
        <p:spPr>
          <a:xfrm>
            <a:off x="3429000" y="1714320"/>
            <a:ext cx="5513040" cy="4817880"/>
          </a:xfrm>
          <a:prstGeom prst="borderCallout1">
            <a:avLst>
              <a:gd name="adj1" fmla="val 49651"/>
              <a:gd name="adj2" fmla="val -678"/>
              <a:gd name="adj3" fmla="val 38799"/>
              <a:gd name="adj4" fmla="val -8727"/>
            </a:avLst>
          </a:prstGeom>
          <a:solidFill>
            <a:srgbClr val="8ac8de"/>
          </a:solidFill>
          <a:ln>
            <a:solidFill>
              <a:srgbClr val="6693a4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120" cy="4876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lvl="1" marL="743040" indent="-285840">
              <a:lnSpc>
                <a:spcPct val="140000"/>
              </a:lnSpc>
              <a:spcBef>
                <a:spcPts val="479"/>
              </a:spcBef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20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39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dt" idx="40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矩形 4"/>
          <p:cNvSpPr/>
          <p:nvPr/>
        </p:nvSpPr>
        <p:spPr>
          <a:xfrm>
            <a:off x="3178800" y="2709000"/>
            <a:ext cx="275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9600" spc="299" strike="noStrike">
                <a:solidFill>
                  <a:srgbClr val="8adeff"/>
                </a:solidFill>
                <a:latin typeface="Arial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076960" cy="5630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2" name="内容占位符 4"/>
          <p:cNvGraphicFramePr/>
          <p:nvPr/>
        </p:nvGraphicFramePr>
        <p:xfrm>
          <a:off x="539640" y="2133720"/>
          <a:ext cx="7703640" cy="3400920"/>
        </p:xfrm>
        <a:graphic>
          <a:graphicData uri="http://schemas.openxmlformats.org/drawingml/2006/table">
            <a:tbl>
              <a:tblPr/>
              <a:tblGrid>
                <a:gridCol w="3852000"/>
                <a:gridCol w="3852000"/>
              </a:tblGrid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酒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PlaceHolder 2"/>
          <p:cNvSpPr>
            <a:spLocks noGrp="1"/>
          </p:cNvSpPr>
          <p:nvPr>
            <p:ph type="dt" idx="12"/>
          </p:nvPr>
        </p:nvSpPr>
        <p:spPr>
          <a:xfrm>
            <a:off x="6248520" y="0"/>
            <a:ext cx="2666520" cy="2282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94" name="TextBox 8"/>
          <p:cNvSpPr/>
          <p:nvPr/>
        </p:nvSpPr>
        <p:spPr>
          <a:xfrm>
            <a:off x="2484360" y="1476000"/>
            <a:ext cx="3958920" cy="7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Num" idx="13"/>
          </p:nvPr>
        </p:nvSpPr>
        <p:spPr>
          <a:xfrm>
            <a:off x="4284720" y="6524640"/>
            <a:ext cx="1223640" cy="561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1B6BD154-9D1B-48BB-AE39-4760662AD9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79280" y="1628640"/>
            <a:ext cx="865944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min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1" lang="en-US" sz="28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Num" idx="14"/>
          </p:nvPr>
        </p:nvSpPr>
        <p:spPr>
          <a:xfrm>
            <a:off x="4356000" y="6524640"/>
            <a:ext cx="1201320" cy="333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27B79A-AF4B-4393-8820-956A8EB843F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5800" cy="856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0" y="1628640"/>
            <a:ext cx="8838720" cy="4587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457200" indent="0">
              <a:lnSpc>
                <a:spcPct val="14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催吐：是排空胃内容物最简单、最有效的方法，但此方法仅限于清醒且合作的患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：是彻底清除胃内容物的有效方法，也是口服毒物中毒患者抢救成功的重要措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导泻 ：在催吐或彻底洗胃后，通过口服或由胃管注入泻药，加速肠蠕动，减少毒物在肠道内的停留时间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39"/>
              </a:spcBef>
              <a:buClr>
                <a:srgbClr val="046ca6"/>
              </a:buClr>
              <a:buFont typeface="Symbol" charset="2"/>
              <a:buChar char=""/>
              <a:tabLst>
                <a:tab algn="l" pos="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灌肠：是快速有效的肠道毒物清除方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1" lang="en-US" sz="2400" spc="-1" strike="noStrike">
              <a:solidFill>
                <a:schemeClr val="accent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课件模板">
  <a:themeElements>
    <a:clrScheme name="课件模板 1">
      <a:dk1>
        <a:srgbClr val="046ca6"/>
      </a:dk1>
      <a:lt1>
        <a:srgbClr val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00"/>
      </a:dk2>
      <a:lt2>
        <a:srgbClr val="dddddd"/>
      </a:lt2>
      <a:accent1>
        <a:srgbClr val="8ac8de"/>
      </a:accent1>
      <a:accent2>
        <a:srgbClr val="99669b"/>
      </a:accent2>
      <a:accent3>
        <a:srgbClr val="ffffff"/>
      </a:accent3>
      <a:accent4>
        <a:srgbClr val="035b8d"/>
      </a:accent4>
      <a:accent5>
        <a:srgbClr val="c4e0ec"/>
      </a:accent5>
      <a:accent6>
        <a:srgbClr val="8a5c8c"/>
      </a:accent6>
      <a:hlink>
        <a:srgbClr val="ddb523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1</TotalTime>
  <Application>LibreOffice/7.4.7.2$Linux_X86_64 LibreOffice_project/40$Build-2</Application>
  <AppVersion>15.0000</AppVersion>
  <Pages>0</Pages>
  <Words>3539</Words>
  <Characters>0</Characters>
  <CharactersWithSpaces>0</CharactersWithSpaces>
  <Paragraphs>452</Paragraphs>
  <Company>pum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2-10T08:04:14Z</dcterms:modified>
  <cp:revision>1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  <property fmtid="{D5CDD505-2E9C-101B-9397-08002B2CF9AE}" pid="3" name="Notes">
    <vt:r8>13</vt:r8>
  </property>
  <property fmtid="{D5CDD505-2E9C-101B-9397-08002B2CF9AE}" pid="4" name="PresentationFormat">
    <vt:lpwstr>全屏显示(4:3)</vt:lpwstr>
  </property>
  <property fmtid="{D5CDD505-2E9C-101B-9397-08002B2CF9AE}" pid="5" name="Slides">
    <vt:r8>64</vt:r8>
  </property>
</Properties>
</file>